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26578"/>
        <c:axId val="46929868"/>
      </c:barChart>
      <c:catAx>
        <c:axId val="22026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29868"/>
        <c:crosses val="autoZero"/>
        <c:auto val="1"/>
        <c:lblAlgn val="ctr"/>
        <c:lblOffset val="100"/>
        <c:noMultiLvlLbl val="0"/>
      </c:catAx>
      <c:valAx>
        <c:axId val="46929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6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E49-D41A-41D9-A0A5-DBB65FA5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A77-0935-4CA7-ACE6-D44FF66D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6FA-B2BD-4037-AEEA-1CE3D65C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45E-CEED-4282-9A88-9E2B973C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228-D025-44A3-85BF-8241CAF3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8E9-0E0A-4831-ADA4-3A214B19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3CF-F14D-4AF6-A552-9086C65B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00A-6E45-432D-8F9E-E35B4559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1AB-9DF7-46FB-9F13-595A752C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E92-304E-4477-A577-16712388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822-46B5-4EAA-88D8-E791DA41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792-B433-472D-A061-C932AA51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B0505-43C0-400B-86E5-C86485EF0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