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194849"/>
        <c:axId val="91177829"/>
      </c:barChart>
      <c:catAx>
        <c:axId val="111948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77829"/>
        <c:crosses val="autoZero"/>
        <c:auto val="1"/>
        <c:lblAlgn val="ctr"/>
        <c:lblOffset val="100"/>
        <c:noMultiLvlLbl val="0"/>
      </c:catAx>
      <c:valAx>
        <c:axId val="911778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948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BCE5-0719-4CAA-B290-9CCFCDD3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74E4-BC5D-4B7D-9462-6A5F8B4B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782D-6440-49AF-BEF5-EB68CAA88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0757-CC1B-41B8-A35A-E809E5BB4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1253-2D28-49CE-8208-DE3F3B3F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0570-7A13-4FDF-92EC-7E53C1C4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8DC9-49FD-4B95-9A06-89127FE7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6BCA-E356-4F5B-A498-D04F65E0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DAEC-2ABC-447F-B57A-10AB884F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65A0-F7C3-414E-8395-D887DF41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39E6-80D5-4A3C-B89E-239A0D1B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700C-4396-4F33-BC61-64767DD8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698CA-881E-4135-A388-54BA20C262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