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26335"/>
        <c:axId val="47482302"/>
      </c:barChart>
      <c:catAx>
        <c:axId val="52526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82302"/>
        <c:crosses val="autoZero"/>
        <c:auto val="1"/>
        <c:lblAlgn val="ctr"/>
        <c:lblOffset val="100"/>
        <c:noMultiLvlLbl val="0"/>
      </c:catAx>
      <c:valAx>
        <c:axId val="47482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26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36BC-F7C0-4353-A2F1-6AC62835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4C76-46C0-4392-AFB4-FB27E011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3385-EB5D-464C-AF29-4FBF0828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9549-AA98-4D74-9E24-D628BD1E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751-3B11-431E-88ED-DB74530C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C0C5-934E-44EF-A38A-87C368A8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D628-BC34-43EE-B76C-A944A6DE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3ED-666F-42EB-8AA9-3C0E0834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1645-8830-482F-898D-5C37E25B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A6CA-02A8-4E43-A8AE-FD598ADD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E20-7AA5-4EC4-9A5C-3327F799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59F7-3F5F-4026-8F5D-B3FA39D7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8A49B-7A93-41B9-BF5C-B88195A87E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