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733898"/>
        <c:axId val="90868107"/>
      </c:barChart>
      <c:catAx>
        <c:axId val="307338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868107"/>
        <c:crosses val="autoZero"/>
        <c:auto val="1"/>
        <c:lblAlgn val="ctr"/>
        <c:lblOffset val="100"/>
        <c:noMultiLvlLbl val="0"/>
      </c:catAx>
      <c:valAx>
        <c:axId val="908681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7338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9CE6-E248-4F33-9AA0-9891A2726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EDBA-9C8B-4B93-A79C-DB751ADFC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CB5A-07FF-401E-A0C7-B94D0B966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0509-D167-401C-AD7D-9ADBBDBBE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B7AB-A4C4-4CFF-B537-E2AC17993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DB4C-CD89-4E85-A22E-CA4F193A8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3B81-16EB-4A82-8315-C168A3F93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63D8-DAB4-402A-87A4-B42ED5668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AB5F-AD4C-4B2E-889B-AD246EB4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8A23-96B5-4E2B-AE46-5F6D8D5C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2DE6-D37B-45E0-A6B7-C02E2DD8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87CA-6610-4CDB-9D04-F5F27384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424DAE-DE60-4433-9955-D4E0E08B29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