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35065"/>
        <c:axId val="69669889"/>
      </c:barChart>
      <c:catAx>
        <c:axId val="51935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9889"/>
        <c:crosses val="autoZero"/>
        <c:auto val="1"/>
        <c:lblAlgn val="ctr"/>
        <c:lblOffset val="100"/>
        <c:noMultiLvlLbl val="0"/>
      </c:catAx>
      <c:valAx>
        <c:axId val="69669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35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A35-5FF4-4417-8CD0-F68EA590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A28-02EE-4948-A1E7-BEA2723A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D88-77A7-433A-B8D1-EE273B31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D9E-4AF9-48E9-8B4C-9EAD6B30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FDE-11E6-436B-954A-533AEB7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0E4-EEEB-4950-B06C-0131C81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1DA-0883-4E10-B7B0-3F651EAE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DC1-5FE8-418D-9AE4-65346CB2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9D0-508B-48F9-A690-5CC61280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25A-45F6-4CC3-ADBA-A182D92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216-ACD6-4DBB-BF6B-CDAF103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F09-A669-4264-A96F-38B75F4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E63E0-4F43-4197-8E7C-7C926B75E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