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5198427"/>
        <c:axId val="75272584"/>
      </c:barChart>
      <c:catAx>
        <c:axId val="851984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5272584"/>
        <c:crosses val="autoZero"/>
        <c:auto val="1"/>
        <c:lblAlgn val="ctr"/>
        <c:lblOffset val="100"/>
        <c:noMultiLvlLbl val="0"/>
      </c:catAx>
      <c:valAx>
        <c:axId val="7527258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51984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B4F5-7431-435E-A922-A6B272B012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8369E-582F-4B06-A355-6A67F679EE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AE73-D907-44F0-BAE8-6BEFC3BD3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0E589-351E-4F65-B7E8-15166385E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124B-A981-451B-8FB3-DA4686A90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BD5AD-8614-4F76-8852-ACB73FBA5C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B2ADA-C591-410E-AC46-548F74D0A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311B-F82E-4A21-ADF4-7DCC9F404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92D3E-210A-41F1-A753-F1DD2789C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EA322-D5CF-41A4-873E-06D2994A4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75D38-241F-46E6-997A-B92DB59A8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17D4-EA1C-48C1-814D-07126C570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F29A49-7EE2-4F2E-8202-2D3C3C0E76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